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E38-381D-4339-A3F7-38608666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BD0-931A-437B-8417-A586DE1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0ED-0F94-4FB1-9B6E-EEC99B45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753-4C2D-474C-8741-1A993709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AF2-37FC-4C90-8529-BF0EC0A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80C-CCD1-440F-88DD-ED1EAA3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CEF-837B-4B9F-93CD-F1F6270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39B-85F9-48B6-999D-FA36D112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3B9-88B1-4732-A3D6-57A189A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0D9-F542-433F-A1EA-8C2D54C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96C-5E93-41FD-BB2F-A840DDC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CD6-B6C3-45EA-AE0F-80839D2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8CA-B003-47B4-9E76-C9AE6DEE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wmf"/><Relationship Id="rId6" Type="http://schemas.openxmlformats.org/officeDocument/2006/relationships/image" Target="../media/image4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6 de abril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51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¿Cómo son t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una familia grande o pequeñ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tu mejor amigo, ¿Cuántos añ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Uds. una masc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adjetivos posesivo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ssesive adjec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s who owns or possess something. 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Adjetivos posesivo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panis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905120" cy="13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337000"/>
            <a:ext cx="198108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2666880"/>
            <a:ext cx="2438280" cy="177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905120" cy="138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6360" y="3200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5320" y="4419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2880" y="5181480"/>
            <a:ext cx="19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8000" y="33526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5760" y="5364000"/>
            <a:ext cx="11912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pol.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9200" y="320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5080" y="32004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88760" y="44496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2440" y="4449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5000" y="5638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376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0481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o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115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estr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3760" y="57452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2880" y="57452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go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am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______ cam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86120" y="1477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904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4640" y="3611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67680" y="41911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292320" indent="-2923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only two forms– Singular and Plural. The adjectiv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refer to many differ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lib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_____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zapa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_____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81480" y="2139840"/>
            <a:ext cx="243864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5392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6356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2400" y="3992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02040" y="4525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228600"/>
            <a:ext cx="82296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ues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ke any other adjective that ends in –O has 4 f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             _______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uartos           _______ plum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243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78280" y="4602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7040" y="51354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98000" y="460224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22040" y="5135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 la oración con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djetivo Posesiv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pe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190512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g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1981080" cy="144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5486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 somb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109692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1828800" cy="1181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0532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53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438280" cy="177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04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________ ab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858000" y="2514600"/>
            <a:ext cx="137016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066680" y="4267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010280" y="4495680"/>
            <a:ext cx="1244880" cy="1306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43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_________cuad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298520" cy="1811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298520" cy="181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2286000" cy="1666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629400" y="2362320"/>
            <a:ext cx="1841400" cy="1438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33520" y="4343400"/>
            <a:ext cx="2286000" cy="1660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1295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lap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200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 g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502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________ moch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324480" y="4114800"/>
            <a:ext cx="1411560" cy="169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7467480" y="4876920"/>
            <a:ext cx="14115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05:40Z</dcterms:created>
  <dc:creator>Helen Zumaeta</dc:creator>
  <dc:description/>
  <dc:language>en-US</dc:language>
  <cp:lastModifiedBy>Helen Zumaeta</cp:lastModifiedBy>
  <dcterms:modified xsi:type="dcterms:W3CDTF">2012-04-14T02:47:27Z</dcterms:modified>
  <cp:revision>9</cp:revision>
  <dc:subject/>
  <dc:title>Me llamo _________ Clase 6nh/il La fecha es el 24 de marzo del 2011</dc:title>
</cp:coreProperties>
</file>